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431-C837-4670-A5AF-B242E80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4BD-F7AA-4203-AD16-BA59FB92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304-2190-4F22-9E9E-176204A7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1BE-D76E-463A-8E58-92CE373B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71CB-492C-4BCD-A413-E6CA691C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3AAE-953B-416F-A4CD-67FC325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CC0C-BE83-4A60-823F-ACDD246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A1F5-7B39-4EA2-AF8A-4A5B8D50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FA92-BE85-4FC5-9B1A-5F0011B9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CC0F-4F82-41E3-AFE0-9109B14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04BF-CAC0-4718-AD70-4550505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CD8-287A-4BA1-87BB-DF90C99C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9E15-F0BB-4530-9523-5524EEE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FF2-3EE5-4C03-A2E1-102D1D71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A548-8DB6-4E47-81A5-F6C287F5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9074-8C20-4D65-A114-E6BB0BA4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649-79BB-4F5E-9EC9-23C5D28F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AFD-16BC-4B68-9C8C-AC6E202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262-7C67-4106-9211-BBA40B2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727-D794-4C5E-8B51-9820D30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5BD-51E2-4145-825C-F3F30177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ED3-5044-489F-AF82-B16C1BB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80E-F1E5-4709-9F98-6C559FA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5C0-564E-4CEE-8148-7D14F5C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862-D448-4E7D-823F-780751A37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810E-F1BA-4828-AF00-B59829072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cc"/>
                </a:solidFill>
                <a:latin typeface="Book Antiqua"/>
              </a:rPr>
              <a:t>The Present Subjunctive </a:t>
            </a:r>
            <a:endParaRPr b="0" lang="en-US" sz="6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alidades 3 p 13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ersonal expressions ( when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1 pers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s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someone or someth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ct/happen) The first subject uses the </a:t>
            </a:r>
            <a:r>
              <a:rPr b="0" lang="en-US" sz="3200" spc="-1" strike="noStrike" u="sng">
                <a:solidFill>
                  <a:srgbClr val="00cccc"/>
                </a:solidFill>
                <a:uFillTx/>
                <a:latin typeface="Arial"/>
              </a:rPr>
              <a:t>present indica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 (recommendation, suggestion, want/wish etc…) + </a:t>
            </a:r>
            <a:r>
              <a:rPr b="0" lang="en-US" sz="3200" spc="-1" strike="noStrike" u="sng">
                <a:solidFill>
                  <a:srgbClr val="00cccc"/>
                </a:solidFill>
                <a:uFillTx/>
                <a:latin typeface="Arial"/>
              </a:rPr>
              <a:t>q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second subject uses the </a:t>
            </a:r>
            <a:r>
              <a:rPr b="0" lang="en-US" sz="3200" spc="-1" strike="noStrike" u="sng">
                <a:solidFill>
                  <a:srgbClr val="00cccc"/>
                </a:solidFill>
                <a:uFillTx/>
                <a:latin typeface="Arial"/>
              </a:rPr>
              <a:t>present subjun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 (what should happ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029200" y="6172200"/>
            <a:ext cx="358128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verbs used in personal expressions followed by que + subjunct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er ( e&gt;i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ir (e &gt; i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nse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267080" y="335268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g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recomenda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 &gt; i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erir (e &gt; 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s recomendamos </a:t>
            </a:r>
            <a:r>
              <a:rPr b="1" lang="en-US" sz="4800" spc="-1" strike="noStrike">
                <a:solidFill>
                  <a:srgbClr val="00cccc"/>
                </a:solidFill>
                <a:latin typeface="Arial"/>
              </a:rPr>
              <a:t>que Uds. hable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con un agente de viaj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e recommend </a:t>
            </a:r>
            <a:r>
              <a:rPr b="1" i="1" lang="en-US" sz="4800" spc="-1" strike="noStrike">
                <a:solidFill>
                  <a:srgbClr val="00cccc"/>
                </a:solidFill>
                <a:latin typeface="Arial"/>
              </a:rPr>
              <a:t>that you speak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 with a travel ag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¿Quiere Ud. </a:t>
            </a:r>
            <a:r>
              <a:rPr b="1" lang="en-US" sz="4800" spc="-1" strike="noStrike">
                <a:solidFill>
                  <a:srgbClr val="00cccc"/>
                </a:solidFill>
                <a:latin typeface="Arial"/>
              </a:rPr>
              <a:t>que escribamo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nuestros nombres en las maleta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o you want </a:t>
            </a:r>
            <a:r>
              <a:rPr b="1" i="1" lang="en-US" sz="4800" spc="-1" strike="noStrike">
                <a:solidFill>
                  <a:srgbClr val="00cccc"/>
                </a:solidFill>
                <a:latin typeface="Arial"/>
              </a:rPr>
              <a:t>us to write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 our names on our suitcas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4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971800" y="2057400"/>
            <a:ext cx="6172200" cy="6858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1981080"/>
            <a:ext cx="3048120" cy="83844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Book Antiqua"/>
              </a:rPr>
              <a:t>2 Clauses w/ impersonal expressions</a:t>
            </a:r>
            <a:endParaRPr b="0" lang="en-US" sz="36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 bueno    que yo aprenda francé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447920" y="30477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28600" y="3657600"/>
            <a:ext cx="22860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 clau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tands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ect &gt;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3581280" y="28191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743200" y="3657600"/>
            <a:ext cx="1523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arated by the word “q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4"/>
          <p:cNvSpPr/>
          <p:nvPr/>
        </p:nvSpPr>
        <p:spPr>
          <a:xfrm rot="5326200">
            <a:off x="5765760" y="294120"/>
            <a:ext cx="630360" cy="5638680"/>
          </a:xfrm>
          <a:custGeom>
            <a:avLst/>
            <a:gdLst>
              <a:gd name="textAreaLeft" fmla="*/ 0 w 630360"/>
              <a:gd name="textAreaRight" fmla="*/ 227520 w 63036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952880" y="3657600"/>
            <a:ext cx="33530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endent clause (can’t stand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gins with the word “qu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57200" y="5791320"/>
            <a:ext cx="1523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867280" y="5334120"/>
            <a:ext cx="1828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unc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Book Antiqua"/>
              </a:rPr>
              <a:t>Impersonal Expressions that are followed by the subjunctive</a:t>
            </a:r>
            <a:endParaRPr b="0" lang="en-US" sz="28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bueno/malo que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importante que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mejor que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necesario que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e form the present subjunctive of most verbs the same way we form negative tú commands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rop the -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of the present-tense indicative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form and add the subjunctive ending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-ar verb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, es, e, emos, éis, 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-er/-ir verb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, as, a, amos, áis, 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267080" y="5715000"/>
            <a:ext cx="34290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 far in Spanish we’ve been using verbs in the </a:t>
            </a:r>
            <a:r>
              <a:rPr b="0" i="1" lang="en-US" sz="4800" spc="-1" strike="noStrike">
                <a:solidFill>
                  <a:srgbClr val="00cccc"/>
                </a:solidFill>
                <a:latin typeface="Arial"/>
              </a:rPr>
              <a:t>indicative moo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which is used to talk about facts or actual eve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181480" y="5410080"/>
            <a:ext cx="27432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HABLA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é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bl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COME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á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VIVI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á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v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esent subjunctive has the </a:t>
            </a: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same spelling change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 the </a:t>
            </a: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negative tú command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09520"/>
            <a:ext cx="861084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rregular Subjunctive Verb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c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a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o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09520"/>
            <a:ext cx="861084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rregular Subjunctive Verb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243828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c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735000" y="2514600"/>
            <a:ext cx="156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936480" y="251460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ag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563868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91440" y="411480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n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659040" y="4191120"/>
            <a:ext cx="17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859800" y="41911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eng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638680" y="441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259092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HACER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m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á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g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4495680" y="18288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Car, Gar Zar verbs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legar:   llegue, llegues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car:  saque, saques 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morzar:almuerce, almuerces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Irregular Subjunctive Verb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   dé, des, dé demos, deis, 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    sea, seas, sea, seamos, seáis, s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vaya, vayas, vaya vayamos, vayáis, vay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r   esté, estés, esté estemos, estéis, esté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ber sepa, sepas, sepa, sepamos, sepáis, se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Haber haya, hayas, haya, hayamos, hayáis, hay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Book Antiqua"/>
              </a:rPr>
              <a:t>Sentences in the indicative mood</a:t>
            </a:r>
            <a:endParaRPr b="0" lang="en-US" sz="48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ñana voy al c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yer, comimos pizz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 hermano siempre lloraba cuando íbamos a la escuel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 has hecho la tarea y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anish has another mood called the …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8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cccc"/>
                </a:solidFill>
                <a:latin typeface="Arial"/>
              </a:rPr>
              <a:t>subjunctive mood”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junctive mood is made up of 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personal expression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certain verbs that express requests, wants, demands, suggestions,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Impersonal expression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importante que” “es necesario qu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ersonal Expressions require the Subjunctive mood when someone wants another person to do someth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sentence that includes the subjunctive form has two parts connected by the word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4876920" y="5486400"/>
            <a:ext cx="29718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3"/>
          <p:cNvSpPr/>
          <p:nvPr/>
        </p:nvSpPr>
        <p:spPr>
          <a:xfrm>
            <a:off x="2971800" y="2057400"/>
            <a:ext cx="6172200" cy="6858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981080"/>
            <a:ext cx="3048120" cy="83844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2 Clauses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la sugiere que yo aprenda francé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1447920" y="30477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28600" y="3657600"/>
            <a:ext cx="22860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 clau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tands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ect &gt;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3581280" y="28191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743200" y="3657600"/>
            <a:ext cx="1523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arated by the word “q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 rot="5326200">
            <a:off x="5765760" y="294120"/>
            <a:ext cx="630360" cy="5638680"/>
          </a:xfrm>
          <a:custGeom>
            <a:avLst/>
            <a:gdLst>
              <a:gd name="textAreaLeft" fmla="*/ 0 w 630360"/>
              <a:gd name="textAreaRight" fmla="*/ 227520 w 63036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952880" y="3657600"/>
            <a:ext cx="33530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pendent clause (can’t stand on its ow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gins with the word “qu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57200" y="5791320"/>
            <a:ext cx="15238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5867280" y="5334120"/>
            <a:ext cx="1828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junctive Ve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cc"/>
                </a:solidFill>
                <a:latin typeface="Book Antiqua"/>
              </a:rPr>
              <a:t>The Subjunctive</a:t>
            </a:r>
            <a:endParaRPr b="0" lang="en-US" sz="5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te that the subjunctive sentences have two parts, each with a different subject, connected by the word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114800" y="5715000"/>
            <a:ext cx="358128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44:02Z</dcterms:created>
  <dc:creator>NIHS</dc:creator>
  <dc:description/>
  <dc:language>en-US</dc:language>
  <cp:lastModifiedBy>admin</cp:lastModifiedBy>
  <dcterms:modified xsi:type="dcterms:W3CDTF">2012-03-15T16:46:33Z</dcterms:modified>
  <cp:revision>44</cp:revision>
  <dc:subject/>
  <dc:title>No Slide Title</dc:title>
</cp:coreProperties>
</file>